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013-4C69-4F64-842B-87A9A0C6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1EE-D158-46DB-992D-7C7F40E6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886-EB3F-4E0E-99F2-D502ADF4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52D-21CA-4F4D-9B74-A3EC09AC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78D5-9A44-4F94-A392-1FAE041E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B1FF-04C0-45DE-B26D-7894826F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B37E-D86D-46E3-B502-B5ED4F05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F209-3EB9-45A8-9B52-6128B1B9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D663-A6CE-4E20-9533-DF88D1A6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6FE3-93CF-4B46-93C0-061C39CC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76D8-EDF5-4BCD-AE8D-F4A87D4E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456-0839-4847-BB8D-FCFDB846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B5BB-2104-42C6-9632-A340B00F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1F19-172F-4E5A-8273-33CFBFD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347A-D565-4CEB-812A-E47E5223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6345-E27D-4CFC-8B87-62651F59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1C3A-D441-4054-8B41-4399BDC0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7A2-CFEF-44B4-8B75-2F4EDEAF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29C-EE47-4C08-BAC7-F9E3D050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F96-B041-4BB1-862D-E1EE040E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4DF-8BB7-4BDC-A2C6-41846685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874-E643-472A-B269-B4F6DE7E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F54-A95A-4ED4-8BAF-E0D30FAC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D18-8434-475A-A24D-975A38E1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11C9-B90A-465A-B9E2-FE0473F25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29CA-12F6-401B-A92E-EE103F7BE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Massassoit National Wildlife Refug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assoit, Mary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king and Bik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fuge offers over 10 miles of paved trails for walking or bi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e Trail folllows the dunes from the Visitor Center 5 miles to Brant Poi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52640" y="159984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ildlife View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many species of bird, deer, small animals, and wild ponys from trai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tion decks give excellent view of ducks, geese, and other migratory bir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fuge Regula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/crabbing permitted in designated are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ge pools closed to all bo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 not permit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ats permitted on Brant Point from September 1 to March 1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fires prohibited except by special perm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afety Infor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precautions to avoid ticks that might carry Lyme dis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approach wildlif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r protective clothing and use repellent against mosquito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21:05:04Z</dcterms:created>
  <dc:creator>Cat Skintik</dc:creator>
  <dc:description/>
  <dc:language>en-US</dc:language>
  <cp:lastModifiedBy>Julie Hotchkiss</cp:lastModifiedBy>
  <dcterms:modified xsi:type="dcterms:W3CDTF">2004-09-25T17:53:25Z</dcterms:modified>
  <cp:revision>7</cp:revision>
  <dc:subject/>
  <dc:title>PowerPoint Presentation</dc:title>
</cp:coreProperties>
</file>